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0F24-1329-4F2E-9513-4E94234687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heh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09B-B759-4768-BD9F-6A48D94F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309-5888-463A-903E-8B8405C5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18D-0CBD-41E5-8191-C3C8451A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D5A-8621-4103-BE05-56641EC9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25DE-0DFB-43BF-B1B5-3430FA08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A1B6-0E12-423E-BED9-3003B078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2E37-E08E-42CD-B77B-4C2FFEC3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15E-EA26-4A5A-8FCD-4383A99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158-3F5E-443E-994F-055E1DAE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83E-AE0D-4B34-B055-C4114DD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8F10-FEA5-413B-A198-CBB37C38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0BB-09F5-47CB-9408-A143888E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F590-6DAB-43AE-968D-6D90BAF7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59F4-C919-4671-B727-CA54533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6751-5FCA-4264-B08A-5DEEC8BD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49D-D2AD-4B8E-A7A2-EDFCFB17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4E52-AE89-4D89-8087-ED2D2D8B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F61-1800-4095-9EDE-6D90B68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843-8FC2-445C-B338-AFBFDAC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319-B579-4D60-A67D-A2C65624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4AA-1ADD-475E-ADE4-74AD150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FBB-3649-4CAE-8AB1-A818CEEE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DFE-A329-4E68-828D-AFBAC3A9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E47-9994-4F3F-968F-71EDF797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0B3A-9F4C-4EAA-AA3B-66DA1F4A8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CC7-1097-486D-8C84-A8C97A29A4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124080" y="3429000"/>
            <a:ext cx="3048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Server ja kl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741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Graafiline jututub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Liikm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6520" y="2209680"/>
            <a:ext cx="35053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Tanel To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Raul Viigipu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Mihkel Mikkelsa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Jututoa kasutusvõimalus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3809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Meelelahu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Kommunikatsio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Konverents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E02097_" descr=""/>
          <p:cNvPicPr/>
          <p:nvPr/>
        </p:nvPicPr>
        <p:blipFill>
          <a:blip r:embed="rId4"/>
          <a:stretch/>
        </p:blipFill>
        <p:spPr>
          <a:xfrm>
            <a:off x="464832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Nõude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Arvu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Võrguühend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Java Runtime vähemalt 1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java2" descr=""/>
          <p:cNvPicPr/>
          <p:nvPr/>
        </p:nvPicPr>
        <p:blipFill>
          <a:blip r:embed="rId4"/>
          <a:stretch/>
        </p:blipFill>
        <p:spPr>
          <a:xfrm>
            <a:off x="6781680" y="2514600"/>
            <a:ext cx="15876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Serv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ujundus Swing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asutatavad klass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S põhik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utuka lõ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Kasutajad – objekt kasutaja andmete hoidmis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ärkimisväärsed omad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etailne ülevaade kasutajate tegemis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aab lisada he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Kasutajate ahist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ristab Klienti ja telne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Kli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ujundus: A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Kasutatavad klass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JSClient põhik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õi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ärkimisväärsed omadus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Privaatteated teistele kasutajatele (automaatsel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ktiivsete kasutajate  kuv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õimalus edaspidi kasutada proxy server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2970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 Black"/>
              </a:rPr>
              <a:t>Koodi dem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304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¿¿¿ Küsimused ??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7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cc00"/>
                </a:solidFill>
                <a:latin typeface="Arial Black"/>
              </a:rPr>
              <a:t>Täname kuulama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4:05:51Z</dcterms:created>
  <dc:creator>arvutisaal</dc:creator>
  <dc:description/>
  <dc:language>en-US</dc:language>
  <cp:lastModifiedBy>Arvutiklass P415</cp:lastModifiedBy>
  <dcterms:modified xsi:type="dcterms:W3CDTF">2003-12-16T07:59:43Z</dcterms:modified>
  <cp:revision>6</cp:revision>
  <dc:subject/>
  <dc:title>Graafiline jutukas</dc:title>
</cp:coreProperties>
</file>