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917-15A4-4644-A17C-FCC4A5DF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31A-B2AB-4D6E-A9EF-AEB99896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876-6D38-4CA9-AEDB-AC3A1C8B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648-B9E7-4DB9-BBCD-C55C8343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E23-538C-421A-B503-BA965558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442-1429-43B0-B48A-C1256A09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BC5-C658-489E-ABDB-86525BF6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095-70BC-4F67-89C2-A776C94D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0E8-04E5-42A1-B0D3-4CC53E43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048-E4EF-40DD-8203-81B9D3FD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9E0-1DFA-40BF-B2B3-7A21C47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315-6590-478D-B872-BA7E02B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C1C4-0560-4FCF-B57E-C53B10E47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ALGARV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590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asutatud on algarve vahemikus 1 – 3 0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505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äitlikkuse huvides on võetud graafikute koostamisel vahemikuks 1 – 25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105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lgarvud on leitud koostöös failiga alg.exe ning asuvad failis tervitus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5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lain" startAt="1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79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000 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47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0000 -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2997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049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õned algarv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500" spc="-1" strike="noStrike">
                <a:solidFill>
                  <a:srgbClr val="000000"/>
                </a:solidFill>
                <a:latin typeface="Times New Roman"/>
              </a:rPr>
              <a:t>Vahe 2e järjestikkuse algarvu vah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2120" y="1143000"/>
          <a:ext cx="75801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580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85800" y="55627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Järeldub, et enamik algarvude vahedest jääb vahesse 1 -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500" spc="-1" strike="noStrike">
                <a:solidFill>
                  <a:srgbClr val="000000"/>
                </a:solidFill>
                <a:latin typeface="Times New Roman"/>
              </a:rPr>
              <a:t>Vahe 2e järjestikkuse algarvu vah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324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5257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lates 3-st on kahe järjestikkuse algarvu vahe alati paarisarv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Algarvude hulgas leidub  ainult  1 paarisarv!</a:t>
            </a:r>
            <a:br>
              <a:rPr sz="4400"/>
            </a:br>
            <a:br>
              <a:rPr sz="4400"/>
            </a:br>
            <a:r>
              <a:rPr b="0" lang="et-EE" sz="5400" spc="-1" strike="noStrike">
                <a:solidFill>
                  <a:srgbClr val="000000"/>
                </a:solidFill>
                <a:latin typeface="Times New Roman"/>
              </a:rPr>
              <a:t>See on 2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5400" spc="-1" strike="noStrike">
                <a:solidFill>
                  <a:srgbClr val="000000"/>
                </a:solidFill>
                <a:latin typeface="Times New Roman"/>
              </a:rPr>
              <a:t>Jaotumis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Mida suuremaks muutuvad algarvud, seda vähem leidub neid ühes kindlas vahemi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09680" y="3352680"/>
          <a:ext cx="462456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62456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Kõik selleks korrak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9:59:40Z</dcterms:created>
  <dc:creator>tudeng</dc:creator>
  <dc:description/>
  <dc:language>en-US</dc:language>
  <cp:lastModifiedBy>tudeng</cp:lastModifiedBy>
  <dcterms:modified xsi:type="dcterms:W3CDTF">2004-02-11T10:31:40Z</dcterms:modified>
  <cp:revision>8</cp:revision>
  <dc:subject/>
  <dc:title>ALGARVUD</dc:title>
</cp:coreProperties>
</file>