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BE-B0C0-46F9-98E2-28741F8A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D95-F7E1-41EB-8910-532182D2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F1D-BB4A-46FC-8193-697BCAB6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4C3-7B26-49E3-AE9A-A5D50B97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F8A0-08B2-4062-8B3B-2E5B79F2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1E56-98B4-49AE-9EB5-90D643BA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A74-21A8-42D4-8DC4-52ADD71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48F-088E-45CF-BDDE-D4F066E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D705-E6C2-4985-8D62-025195E5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4AE-A7B0-4C9D-A3B7-93DEB5F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F458-9956-4691-9904-2676DE2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82B-ACD8-4EAF-9C94-1A5EDE2B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EB52-64E6-489B-A133-4E74E1D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595-50AD-499D-8EB9-ED08344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AA06-022F-4A5E-951E-7F2FF06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9DC-698F-4F1A-84EE-07FF52D5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F7C-6D38-463F-B358-6B8F0608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B27-CC3D-47D4-8767-F4857E1C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2A4-0AFA-4433-8CE8-37AAA8A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9D3-9688-413B-A22D-C982B8D1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369-DC66-4A34-88DB-26F3A02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8BF-CB1D-47BC-8992-5691BB8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9D6-1E21-4F79-A587-4BEC23C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D78-0115-400C-B10D-7E0BD5B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632-CB52-41A4-99F2-F9966D59C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7CB-26E0-49D3-B418-346B4829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221304"/>
                </a:solidFill>
                <a:latin typeface="Lithograph"/>
              </a:rPr>
              <a:t>Kolm kappi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Grup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21%-53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0,8%-35,8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2,0%-34,2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3,26%-33,43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APP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KAPP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KAPP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ULEMUSTE ANALÜÜ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 PÕHJAL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MIDA SUUREMAKS KATSETE HULK LÄKS SEDA ROHKEM OLI ÕIGETE PROTSENT LÄHEMAL 33,33(1/3)-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9%-62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6,1%-53,3% õige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8,9%-51,4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9,91%-50,10% õige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APP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KAPP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KAPP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ULEMUSTE ANALÜÜ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ÜLESANDE PÕHJAL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MIDA SUUREMAKS KATSETE HULK LÄKS SEDA ROHKEM OLI ÕIGETE PROTSENT LÄHEMAL 50-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08:04:18Z</dcterms:created>
  <dc:creator>tudeng</dc:creator>
  <dc:description/>
  <dc:language>en-US</dc:language>
  <cp:lastModifiedBy>tudeng</cp:lastModifiedBy>
  <dcterms:modified xsi:type="dcterms:W3CDTF">2004-03-31T08:58:51Z</dcterms:modified>
  <cp:revision>2</cp:revision>
  <dc:subject/>
  <dc:title>Kolm kappi</dc:title>
</cp:coreProperties>
</file>